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AFE-C834-4CAE-B676-28B378D7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3BB-A973-4736-A29A-0B5B069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382-F5F9-409C-87A2-0483F6CC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EE0-D88B-488E-ADD8-53057CB6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3AF-9959-485E-A696-47504569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962-2EB6-47BA-8087-01A54B6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D7C-E7B2-434C-BF95-940F0B42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96B-3A15-4C70-9088-32C164B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D04-B446-4771-A01B-786B9C07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E34-69DE-48D6-A581-686632C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CE9-6984-4E30-A799-6FC6ABD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76F-18B9-4F9D-BB8F-6128C32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6CB1-E25E-4400-97B4-97A6A7F0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lagspot.net/images/b/bj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flagspot.net/images/b/bj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flagspot.net/images/b/bj.gif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flagspot.net/images/b/bj.gif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homey or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e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[Benin flag]">
            <a:hlinkClick r:id="rId1"/>
          </p:cNvPr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0" y="0"/>
            <a:ext cx="30844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[Benin flag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58080" y="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[Benin flag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58080" y="480060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[Benin flag]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80060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chooling for mor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death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job opportun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755720" cy="1562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i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of Benin is 116,622                   sq. km. (43,483 sq. mi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ol city is Porto-No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mate is temperatures            between 24 and 31C.                         Humid in south, semiarid in                    the no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[Country Map]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 bu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www.hevasof.com/index.htm"/>
          <p:cNvPicPr/>
          <p:nvPr/>
        </p:nvPicPr>
        <p:blipFill>
          <a:blip r:embed="rId1"/>
          <a:stretch/>
        </p:blipFill>
        <p:spPr>
          <a:xfrm>
            <a:off x="958680" y="3581280"/>
            <a:ext cx="2008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8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6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iland 6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 4.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22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 8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 7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er 5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o 4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eria 4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4.1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50120" y="0"/>
            <a:ext cx="17938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25 original slave traders, known as the Fon, founded the kingdom of Dahomey. In 1892 Dahomey became a French province and part of French West Africa in 19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27986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was gained in 1960 and the country was renamed Benin in 19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4583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Historic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5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- Dahomey is renamed the People's Republic of Ben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2781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54440" cy="5570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West Africa Map"/>
          <p:cNvPicPr/>
          <p:nvPr/>
        </p:nvPicPr>
        <p:blipFill>
          <a:blip r:embed="rId2"/>
          <a:stretch/>
        </p:blipFill>
        <p:spPr>
          <a:xfrm>
            <a:off x="228600" y="1828800"/>
            <a:ext cx="4114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s of Be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place in a framework of a presidential representative democratic republic, whereby the President of Benin is both head of state and head of gover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22800" y="3886200"/>
            <a:ext cx="2275200" cy="2279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1838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2:40:00Z</dcterms:created>
  <dc:creator>carlosjimenez</dc:creator>
  <dc:description/>
  <dc:language>en-US</dc:language>
  <cp:lastModifiedBy>carlosjimenez</cp:lastModifiedBy>
  <dcterms:modified xsi:type="dcterms:W3CDTF">2008-11-10T13:19:15Z</dcterms:modified>
  <cp:revision>6</cp:revision>
  <dc:subject/>
  <dc:title>Benin</dc:title>
</cp:coreProperties>
</file>